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8.png" ContentType="image/png"/>
  <Override PartName="/ppt/media/image4.gif" ContentType="image/gif"/>
  <Override PartName="/ppt/media/image7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.png" ContentType="image/png"/>
  <Override PartName="/ppt/media/image19.jpeg" ContentType="image/jpeg"/>
  <Override PartName="/ppt/media/image11.png" ContentType="image/png"/>
  <Override PartName="/ppt/media/image12.jpeg" ContentType="image/jpeg"/>
  <Override PartName="/ppt/media/image6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10C-8299-4CE3-AB5C-830E5654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301-8D87-494A-9FD3-8ED0A2DF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7370-C816-4D48-B4AF-1FD4F1FF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91F-0CAC-4EAB-AAA2-B276C076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01EE-5977-4EF6-B9F2-47BDF446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5C3B-3A9B-4B2B-98F4-54CFFD94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690A-BAF4-4FB9-BE9F-A9A680DD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435F-0F42-4371-8433-CE9D228D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6DFE-A5EC-4941-AE03-7D212242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28240" y="577440"/>
            <a:ext cx="8637480" cy="49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E328-B274-420E-A76A-C93289E7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6CCB-336D-4D1F-94B6-52FB1CD1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1CC-A15F-48ED-AEDE-E956EEA3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2FF3-D7A5-48D1-9FE9-3C44DDE2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C932-D70A-4E71-B915-139D3270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9EE9-F622-4954-940A-897498FE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DE71-0A53-4A40-B912-66ADD7FD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8049-8ECF-4D04-8FF2-3DD12DCC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050-FB65-43AA-BB4C-71AD9F7D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F5F-C1BC-48DD-8F22-FF094090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223-1616-4BA2-A0FC-82FCCE1E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28240" y="577440"/>
            <a:ext cx="8637480" cy="49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2E6-AED4-4D7A-B90F-AE35B854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D9D-EB7F-4297-8451-75B3009E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242D-E1FC-416A-9266-356E20F7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C58-AA2A-476D-A159-E1421C80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隶书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1146240" indent="-2858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2" marL="1565280" indent="-2286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3" marL="1984320" indent="-228600"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4" marL="2403360" indent="-228600">
              <a:spcBef>
                <a:spcPts val="64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5" marL="2403360" indent="-22860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6" marL="2403360" indent="-22860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4C8D-6711-4D98-9D82-117D5FE936A3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if053" descr=""/>
          <p:cNvPicPr/>
          <p:nvPr/>
        </p:nvPicPr>
        <p:blipFill>
          <a:blip r:embed="rId3"/>
          <a:stretch/>
        </p:blipFill>
        <p:spPr>
          <a:xfrm>
            <a:off x="76320" y="617220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955960" y="2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00"/>
                </a:solidFill>
                <a:latin typeface="宋体"/>
              </a:rPr>
              <a:t>第</a:t>
            </a:r>
            <a:r>
              <a:rPr b="0" lang="zh-CN" sz="2000" spc="-1" strike="noStrike">
                <a:solidFill>
                  <a:srgbClr val="ffcc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ffcc00"/>
                </a:solidFill>
                <a:latin typeface="宋体"/>
              </a:rPr>
              <a:t>章  服务器管理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" name="gif022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9" name="line1" descr=""/>
          <p:cNvPicPr/>
          <p:nvPr/>
        </p:nvPicPr>
        <p:blipFill>
          <a:blip r:embed="rId5"/>
          <a:stretch/>
        </p:blipFill>
        <p:spPr>
          <a:xfrm>
            <a:off x="0" y="228600"/>
            <a:ext cx="9144000" cy="154080"/>
          </a:xfrm>
          <a:prstGeom prst="rect">
            <a:avLst/>
          </a:prstGeom>
          <a:ln w="0">
            <a:noFill/>
          </a:ln>
        </p:spPr>
      </p:pic>
      <p:sp>
        <p:nvSpPr>
          <p:cNvPr id="10" name="">
            <a:hlinkClick r:id="" action="ppaction://hlinkshowjump?jump=previousslide"/>
          </p:cNvPr>
          <p:cNvSpPr/>
          <p:nvPr/>
        </p:nvSpPr>
        <p:spPr>
          <a:xfrm>
            <a:off x="8229600" y="33526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200"/>
                </a:solidFill>
                <a:latin typeface="Times New Roman"/>
                <a:ea typeface="华文行楷"/>
              </a:rPr>
              <a:t>上一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">
            <a:hlinkClick r:id="" action="ppaction://hlinkshowjump?jump=firstslide"/>
          </p:cNvPr>
          <p:cNvSpPr/>
          <p:nvPr/>
        </p:nvSpPr>
        <p:spPr>
          <a:xfrm>
            <a:off x="6248520" y="5562720"/>
            <a:ext cx="1523880" cy="9144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200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">
            <a:hlinkClick r:id="" action="ppaction://hlinkshowjump?jump=nextslide"/>
          </p:cNvPr>
          <p:cNvSpPr/>
          <p:nvPr/>
        </p:nvSpPr>
        <p:spPr>
          <a:xfrm>
            <a:off x="8001000" y="4876920"/>
            <a:ext cx="1143000" cy="9144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200"/>
                </a:solidFill>
                <a:latin typeface="Times New Roman"/>
                <a:ea typeface="华文行楷"/>
              </a:rPr>
              <a:t>下一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50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隶书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99DE-75EC-4D4B-8F63-593A64BF1ED6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14120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3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章   服务器管理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2209680"/>
            <a:ext cx="5843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3.1   </a:t>
            </a: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创建服务器组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</a:rPr>
              <a:t>3.2   服务器注册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3.3   </a:t>
            </a: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服务器启动、暂停和停止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3.4   </a:t>
            </a: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服务器连接与断开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3.5   </a:t>
            </a: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服务器配置选项设置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29600" y="33526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200"/>
                </a:solidFill>
                <a:latin typeface="Times New Roman"/>
                <a:ea typeface="华文行楷"/>
              </a:rPr>
              <a:t>上一章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5562720"/>
            <a:ext cx="1523880" cy="9144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200"/>
                </a:solidFill>
                <a:latin typeface="Times New Roman"/>
                <a:ea typeface="华文行楷"/>
              </a:rPr>
              <a:t>返回目录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80044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2.5" descr=""/>
          <p:cNvPicPr/>
          <p:nvPr/>
        </p:nvPicPr>
        <p:blipFill>
          <a:blip r:embed="rId2">
            <a:grayscl/>
            <a:lum bright="-6000"/>
          </a:blip>
          <a:stretch/>
        </p:blipFill>
        <p:spPr>
          <a:xfrm>
            <a:off x="1905120" y="1371600"/>
            <a:ext cx="4971960" cy="3648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643480" y="5237280"/>
            <a:ext cx="36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5   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选择或创建服务器名称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80960" y="1676520"/>
            <a:ext cx="675792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单击“下一步”按钮，出现选择身份验证模式对话框，即选择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Windows NT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身份验证或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身份验证。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Windows NT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身份验证可以使用户只需维护、使用一个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Windows NT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登录帐户和口令，而使用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身份验证，则必须维护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Windows NT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登录帐户和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登录帐户及口令。如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6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和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7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79576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2.6" descr=""/>
          <p:cNvPicPr/>
          <p:nvPr/>
        </p:nvPicPr>
        <p:blipFill>
          <a:blip r:embed="rId2"/>
          <a:stretch/>
        </p:blipFill>
        <p:spPr>
          <a:xfrm>
            <a:off x="1828800" y="1219320"/>
            <a:ext cx="5334120" cy="3917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975760" y="531324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6   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选择身份验证模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7576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2.7" descr=""/>
          <p:cNvPicPr/>
          <p:nvPr/>
        </p:nvPicPr>
        <p:blipFill>
          <a:blip r:embed="rId2"/>
          <a:srcRect l="0" t="0" r="-2130" b="1450"/>
          <a:stretch/>
        </p:blipFill>
        <p:spPr>
          <a:xfrm>
            <a:off x="1295280" y="1219320"/>
            <a:ext cx="5396040" cy="3795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54760" y="5237280"/>
            <a:ext cx="52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7   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输入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SQL Server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登录名和口令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8680" y="1219320"/>
            <a:ext cx="820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4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单击“下一步”按钮，就会出现选择服务器组或创建服务器组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8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242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2.8" descr=""/>
          <p:cNvPicPr/>
          <p:nvPr/>
        </p:nvPicPr>
        <p:blipFill>
          <a:blip r:embed="rId2"/>
          <a:srcRect l="0" t="0" r="0" b="2700"/>
          <a:stretch/>
        </p:blipFill>
        <p:spPr>
          <a:xfrm>
            <a:off x="2057400" y="2286000"/>
            <a:ext cx="4191120" cy="2895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68240" y="5442120"/>
            <a:ext cx="33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隶书"/>
                <a:ea typeface="隶书"/>
              </a:rPr>
              <a:t>3-8   </a:t>
            </a:r>
            <a:r>
              <a:rPr b="1" lang="zh-CN" sz="2000" spc="-1" strike="noStrike">
                <a:solidFill>
                  <a:srgbClr val="ffffcc"/>
                </a:solidFill>
                <a:latin typeface="隶书"/>
                <a:ea typeface="隶书"/>
              </a:rPr>
              <a:t>选择服务器组或创建服务器组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209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5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服务器组确定后，单击“下一步”按钮，就会出现确定注册对话框，单击“完成”按钮，则企业管理器将注册服务器，如下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9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2428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2.9" descr=""/>
          <p:cNvPicPr/>
          <p:nvPr/>
        </p:nvPicPr>
        <p:blipFill>
          <a:blip r:embed="rId2"/>
          <a:stretch/>
        </p:blipFill>
        <p:spPr>
          <a:xfrm>
            <a:off x="1752480" y="2590920"/>
            <a:ext cx="4496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20908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6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接着出现注册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消息对话框，注册成功后，按“关闭”按钮结束设置。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6692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2.10" descr=""/>
          <p:cNvPicPr/>
          <p:nvPr/>
        </p:nvPicPr>
        <p:blipFill>
          <a:blip r:embed="rId2"/>
          <a:stretch/>
        </p:blipFill>
        <p:spPr>
          <a:xfrm>
            <a:off x="1752480" y="2819520"/>
            <a:ext cx="3962520" cy="2874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231240" y="2657160"/>
            <a:ext cx="1095120" cy="30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3-10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注册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SQL Server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消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136980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3.3 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服务器启动、暂停和停止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 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20908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启动服务器，下面介绍常用的三种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方法：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1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自动启动服务器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2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用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服务管理器启动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用企业管理器（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Enterprise Manag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）启动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暂停和关闭服务器的方法与启动服务器的方法类似，只需在相应的窗口中选择“暂停（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Pause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）”或“停止（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Stop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）”选项即可。为了保险起见，我们通常会在停止运行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之前先暂停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。其主要原因在于，一旦暂停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，将不再允许任何新的上线者，然而原先已联机到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的用户仍然能继续作业，这样可以确保原来正在进行中的作业不会中断，而可以持续进行并加以完成。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97800" y="990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隶书"/>
              </a:rPr>
              <a:t>暂停和关闭服务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4120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3.4 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服务器连接与断开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 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736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一、服务器连接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在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企业管理器的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组中用左键单击所要连接的服务器，或者用右键单击所要连接的服务器，从快捷菜单中选择“连接”选项，即可连接。如果在注册服务器时选择了在连接时提示输入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帐户信息选项（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3-7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），此时则会提示输入这些信息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3-12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6160" y="1064880"/>
            <a:ext cx="6732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3.1  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创建服务器组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在一个网络系统中，可能有多个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服务器，可以对这些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服务器进行分组管理。分组的原则往往是依据组织结构原则。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分组管理由企业管理器（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Enterprise Manager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）来进行。首次启动企业管理器时，有一个名字叫“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 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组”的默认服务器组自动被创建，但用户可以创建新的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组，在企业管理器菜单中单击操作（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Action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）菜单或者用右键单击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s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组，选择新建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 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组菜单项，如图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3-1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接着出现服务器组对话框，如图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3-2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所示，输入组的名称并选择组的级别，单击确定即可。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33864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2.12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828800" y="1371600"/>
            <a:ext cx="5105520" cy="3448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32880" y="5035680"/>
            <a:ext cx="598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3-12   </a:t>
            </a: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连接</a:t>
            </a: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SQL Server</a:t>
            </a: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时的输入登录名和口令窗口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1064880"/>
            <a:ext cx="86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3.5 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服务器配置选项设置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 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4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使用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企业管理器配置服务器的操作方法为：在企业管理器的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组（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Group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）中用右键单击所要进行配置的服务器，从快捷菜单中选择“属性（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Properties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）”选项，就会出现如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13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的对话框，其中可以进行服务器的属性（配置选项）的设置。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196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2" name="2.13" descr=""/>
          <p:cNvPicPr/>
          <p:nvPr/>
        </p:nvPicPr>
        <p:blipFill>
          <a:blip r:embed="rId2">
            <a:grayscl/>
            <a:lum contrast="6000"/>
          </a:blip>
          <a:stretch/>
        </p:blipFill>
        <p:spPr>
          <a:xfrm>
            <a:off x="2666880" y="1523880"/>
            <a:ext cx="3141720" cy="3505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08360" y="5257800"/>
            <a:ext cx="349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3-13   </a:t>
            </a: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服务器属性设置对话框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9144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Monotype Corsiva"/>
              </a:rPr>
              <a:t>Thank you very much!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computer8" descr=""/>
          <p:cNvPicPr/>
          <p:nvPr/>
        </p:nvPicPr>
        <p:blipFill>
          <a:blip r:embed="rId2"/>
          <a:stretch/>
        </p:blipFill>
        <p:spPr>
          <a:xfrm>
            <a:off x="3581280" y="2895480"/>
            <a:ext cx="2133720" cy="1706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375920" y="164700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谢谢您的光临！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1000" y="4876920"/>
            <a:ext cx="1143000" cy="9144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200"/>
                </a:solidFill>
                <a:latin typeface="Times New Roman"/>
                <a:ea typeface="华文行楷"/>
              </a:rPr>
              <a:t>下一章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4324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2-1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248160" cy="3726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29000" y="5237280"/>
            <a:ext cx="41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1   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新建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SQL Server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41508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6232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2.2" descr=""/>
          <p:cNvPicPr/>
          <p:nvPr/>
        </p:nvPicPr>
        <p:blipFill>
          <a:blip r:embed="rId2"/>
          <a:stretch/>
        </p:blipFill>
        <p:spPr>
          <a:xfrm>
            <a:off x="2438280" y="1219320"/>
            <a:ext cx="4496040" cy="3695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189240" y="508464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0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2   </a:t>
            </a:r>
            <a:r>
              <a:rPr b="0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创建服务器组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41508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1369800"/>
            <a:ext cx="693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3.2 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服务器注册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 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68342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谓服务器注册是指将网络系统中的其它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服务器注册到企业管理器中，以便于管理。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6520" y="1141200"/>
            <a:ext cx="703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注册过程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75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1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在企业管理器中，从操作（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Action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）菜单中选择新建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注册，或从工具菜单中选择注册服务器向导选项，或从工具栏中选择图标       ，就会出现如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3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的注册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向导对话框。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如果在对话框中选择“我希望今后在执行该任务时不使用向导”复选框，按“下一步”按钮就会转换到服务器注册属性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4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0" name="2.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38080" y="3200400"/>
            <a:ext cx="3366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308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2.5" descr=""/>
          <p:cNvPicPr/>
          <p:nvPr/>
        </p:nvPicPr>
        <p:blipFill>
          <a:blip r:embed="rId2"/>
          <a:stretch/>
        </p:blipFill>
        <p:spPr>
          <a:xfrm>
            <a:off x="1828800" y="1219320"/>
            <a:ext cx="4800600" cy="3679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91200" y="5257800"/>
            <a:ext cx="36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3   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注册服务器向导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41508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324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2.4" descr=""/>
          <p:cNvPicPr/>
          <p:nvPr/>
        </p:nvPicPr>
        <p:blipFill>
          <a:blip r:embed="rId2">
            <a:grayscl/>
            <a:lum bright="6000"/>
          </a:blip>
          <a:stretch/>
        </p:blipFill>
        <p:spPr>
          <a:xfrm>
            <a:off x="2514600" y="1295280"/>
            <a:ext cx="3610080" cy="3738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77760" y="5181480"/>
            <a:ext cx="36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4   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服务器注册属性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2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在注册服务器向导对话框中不选择复选框，单击“下一步”按钮，就会出现选择或创建服务器名称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5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7T01:24:17Z</dcterms:created>
  <dc:creator>haier</dc:creator>
  <dc:description/>
  <dc:language>en-US</dc:language>
  <cp:lastModifiedBy>lcb</cp:lastModifiedBy>
  <dcterms:modified xsi:type="dcterms:W3CDTF">2001-08-19T08:25:08Z</dcterms:modified>
  <cp:revision>30</cp:revision>
  <dc:subject/>
  <dc:title>第3章   服务器管理 </dc:title>
</cp:coreProperties>
</file>